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C539C-2FA5-421C-A4B1-21C43BE8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8220D-6880-497D-A647-0B5AADEB5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F52F1-32A5-49FF-83BA-2E5B27650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AB0E5-3FBA-4103-82E7-E59A19C54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324D7-F388-4C3E-80A3-5960DD3D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F8066-FCC2-4BBF-8AB9-DA3D0F5E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28B6-4A67-400E-9663-36694493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CBC5F-9965-452E-8F8D-7C96668FF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7180-D32B-410D-ACE6-F9DEB3C3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6B28-E4C7-426F-879E-F381DA02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6128-6E76-435E-8DDD-90FC96B7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00E1-ECCE-4E6E-B3E3-BFF69DFBE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377E-B563-457F-8684-EC976DB31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School</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vin Dav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logo" descr=""/>
          <p:cNvPicPr/>
          <p:nvPr/>
        </p:nvPicPr>
        <p:blipFill>
          <a:blip r:embed="rId1"/>
          <a:stretch/>
        </p:blipFill>
        <p:spPr>
          <a:xfrm>
            <a:off x="3581280" y="685800"/>
            <a:ext cx="1819440" cy="1619280"/>
          </a:xfrm>
          <a:prstGeom prst="rect">
            <a:avLst/>
          </a:prstGeom>
          <a:ln w="0">
            <a:noFill/>
          </a:ln>
        </p:spPr>
      </p:pic>
      <p:pic>
        <p:nvPicPr>
          <p:cNvPr id="44" name="logo" descr=""/>
          <p:cNvPicPr/>
          <p:nvPr/>
        </p:nvPicPr>
        <p:blipFill>
          <a:blip r:embed="rId2"/>
          <a:stretch/>
        </p:blipFill>
        <p:spPr>
          <a:xfrm>
            <a:off x="3657600" y="5029200"/>
            <a:ext cx="1819440" cy="16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our School</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mony ro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ui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lass roo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 ha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fter school club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Teachers</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Miss Dixon</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Miss Jam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William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Harper</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Jon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Jon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Mathew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Davie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Roberson</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Stone</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Robbins</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s King</a:t>
            </a:r>
            <a:endParaRPr b="0" lang="en-US" sz="2400" spc="-1" strike="noStrike">
              <a:solidFill>
                <a:srgbClr val="000000"/>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3333cc"/>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day</a:t>
            </a:r>
            <a:endParaRPr b="0" lang="en-US" sz="44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me in at 9.00</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o work Then we have a assembl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play time we come in and to some more work and we go for dinner after dinner we go out then we come back in then we have p.e and to some work and we Have more work and it is othe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is out</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0:19:50Z</dcterms:created>
  <dc:creator>Glenboi</dc:creator>
  <dc:description/>
  <dc:language>en-US</dc:language>
  <cp:lastModifiedBy>Glenboi</cp:lastModifiedBy>
  <dcterms:modified xsi:type="dcterms:W3CDTF">2009-09-30T10:21:30Z</dcterms:modified>
  <cp:revision>1</cp:revision>
  <dc:subject/>
  <dc:title>Our School</dc:title>
</cp:coreProperties>
</file>